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E72-49A2-4863-B444-77154523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711-D188-4B71-9F67-FA98C8A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EFE-4F06-4579-8380-C2E22DB1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6DD-0AAF-48CF-A5B4-74314F2F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3EA-6DE4-404D-80DC-794F9452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EDE-1F61-42AB-A88E-04F9C07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419-3070-4E0E-A9C8-D6A9CCF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E6D-CEEE-4A96-909F-6AACD15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F13-3B8E-43DA-801D-FBB03B3C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55E-7A44-4C57-A9CF-2DDD4EB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8A-576F-4B25-AEB8-23AE5C30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E18-7C0B-4D9D-BDE7-E29AF92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2B7-7EFF-4D63-96D6-0FA66394D958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Lars Bonde</cp:lastModifiedBy>
  <dcterms:modified xsi:type="dcterms:W3CDTF">2006-02-10T09:21:34Z</dcterms:modified>
  <cp:revision>60</cp:revision>
  <dc:subject/>
  <dc:title>Jerry - DL</dc:title>
</cp:coreProperties>
</file>